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3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4.png" ContentType="image/png"/>
  <Override PartName="/ppt/media/image21.jpeg" ContentType="image/jpeg"/>
  <Override PartName="/ppt/media/image16.jpeg" ContentType="image/jpeg"/>
  <Override PartName="/ppt/media/image17.png" ContentType="image/png"/>
  <Override PartName="/ppt/media/image15.jpeg" ContentType="image/jpeg"/>
  <Override PartName="/ppt/media/image14.png" ContentType="image/pn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E576-494E-4553-AE6E-4EF01EA8C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6D0E-B49A-4FF3-9A1B-CD4A38928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BEB6-7609-487F-8AFA-36A050C91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4F68-46E7-4DA5-AA10-160E0FF72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8C224-EE02-451F-9A8A-3F254B0DE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9830-A8E5-4FEE-A7E3-39EEE2B7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E5F1C-4850-4738-BB66-DB0CA43D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877EE-61CE-401C-B66A-EED7D5AE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2BF5A-603C-41C9-AFA3-582AF11E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546C5-AFD1-4AC7-8AD4-C0EF8E1B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02A3-5A1A-4F38-BDA9-418ABEA07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FF75-7CED-4938-BBD8-BAAB1DF0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D2DA4-9DE2-4AD9-AB1C-D412EE43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BC961-2941-484C-9A64-B0A88981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34EC-3056-4E30-97BB-58D94235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D210B-4380-4ABF-9A76-A5EB91B73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EBC8-C8E8-4BD4-86C5-B1E1166D5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1A31A8-3BAD-420B-9AB9-9800FD990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EEB988-C4B3-4A62-9F23-F2E5202C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39B3CC-106F-40DD-80B6-6055488C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11372A-69A7-4011-B14F-CD49AEBB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66B47A-F74F-4E52-B935-087D7153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589E-3F2B-4FDD-97B8-8405B0A4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1F450B-869E-404F-99C4-1FBC68E3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452FC5-AAC7-43A2-B01F-20783C2F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00DCE2-9BF7-4293-A46C-B8EC6EBA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391616-38BC-435E-809E-07A79C94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C7C6F0-EC4C-4E9F-BAB2-F8A72497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300FCD-9723-45B5-8E88-AC4CA59D3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5DF49B-53AC-46B2-BB57-B46BBC803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DEE0F8-03AB-4930-A757-126AE3C4F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084B3C-65AE-4E27-AA09-C6BEA7297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2B21DC-3478-475F-9FC8-E7D1B516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B480-5D88-4DE8-AC0A-4D6FE16A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00BD23-88E8-41EF-AB82-C71A35AB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AB86D2-CF00-4127-99F5-B4E83E7C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BB0C87-A95F-465C-8482-62AC930E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DA3F92-4225-4C74-864E-518178C5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0A0923-4A04-4432-BF45-F1F58AAEE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AB19AA-FB53-436E-A60A-F39BE064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51110E-95CA-46B2-B9FF-FAD05A5EB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DBA735-B059-4A69-BF4D-3A4267075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5693C8-42F8-4836-88F1-B967EA925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233EB6-8C0B-448A-8F69-3E0FEEDA9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1765-A1DC-4AB0-B38F-C5645F270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7C5584-F919-4FAD-8FD8-E0808F70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22E1FD-A2D6-47A7-AE80-5830272C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6A85A42-7122-4576-8B1F-9D2FFCD4D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F335C8-8439-45DA-B33B-3D1EF573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59AAAF-3774-469F-B7D4-2AF9134D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A91837-95D2-4536-8295-8B351404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881E2C-5E9B-4AC0-9A04-890E58C2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BC5846-395F-437F-8D42-F6FDE60F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5C3ABD-9E0C-4B84-A65C-D8D198A6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BE71D6-EDD2-4FB6-A9AF-EC1D99D58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7B24-5371-4625-83AC-DB329D9D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CBCA8F-9719-469F-813C-9D5AB4421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15BA56-346E-451F-A181-AC985577A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FE56E-DCC6-4E95-8312-07F01210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52380E-B8C3-415B-B90D-1795FBB7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AB611-E556-443C-94FB-06BFB0962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A6983-25E6-4BB6-9316-2BA4C7E5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B815F-7E43-4A62-95D2-D15DD7FAF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30501-D089-40B6-8B7B-7DB0E470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8C152-91AD-49D6-8024-16ECFAE63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E8348-B39B-4FD6-8219-6C7626032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A10D-D057-40AC-B416-DA10F150F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F6120-3F96-492B-9988-691012E0C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4BDAF-5D5A-4ABE-A4F7-FE5569FA1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5AC8A-D739-4A54-9521-F4C27C446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00217C-0DD0-4D85-B08C-58739410C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77EEFB-0D33-4388-B435-98871A57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CE5433-9EC1-4256-A487-DDAE21F3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2F3E99-7EA2-4D09-AE57-66D6306C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986969-27B4-4560-9AC7-904DEBEB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44442D-0FC7-421B-B10F-43E4F1C16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51359B-CE93-4182-B83E-807A7ACB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BC34-4F70-40A4-AB84-38BCAE85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AB8CBDE-3EE5-4DA6-B5C8-A55483D5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D0AD6C-0D5F-4AC0-9C0C-F89A9CBA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BE4D5B-44E1-473A-A69C-59861437F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7F4739F-4326-4456-9A16-F257FB647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25EF14-6234-4880-BC72-EB790FC7D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5486A-5F2F-47EE-A493-D29BE185E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3E6D59-EF04-44DC-9165-F0E8A2D9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139DB-944B-4D82-9E95-E3514A6B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44AA4-2C57-4EB4-BF8F-7376DF9F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884495-93CD-440D-A441-6EA07913E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C50D-2BB4-4851-BD47-C5663A4F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08BA2-EFE4-4E42-AB4C-0C4923CA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94751-8E63-475D-BB38-EEC54978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0661C-3448-4174-9BD3-76DCAE84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CD494-8045-44F4-87BA-7C70D3BB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6F956-742B-47CC-BB75-973CCC512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A399FD-4960-44D9-81E2-3CF9D05A6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E02EF-5ED4-4144-A627-C5096C9CB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A19D-A371-43C5-BB20-A07AA5C79926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174B4-2CF1-48DC-B931-862997A59957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4583B-BD96-49AC-9B63-37A9E661A70C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1C4A9-BC23-4A9C-A5B1-F996FDDD86A6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724A-D870-4350-B455-03E5650D0ACF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565C-1AF7-4C3F-9994-43F1FB2789DF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F039B-2407-4520-A253-95AF4315A446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1EEE-313E-4B4B-B939-3631A9B4C9A0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1371600" y="2743200"/>
            <a:ext cx="7122960" cy="16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75f55"/>
                </a:solidFill>
                <a:latin typeface="Tw Cen MT"/>
              </a:rPr>
              <a:t>May 1781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1371240" y="1600200"/>
            <a:ext cx="76201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"/>
              </a:rPr>
              <a:t>Constitutional Conven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"/>
          <p:cNvSpPr/>
          <p:nvPr/>
        </p:nvSpPr>
        <p:spPr>
          <a:xfrm>
            <a:off x="1676520" y="152280"/>
            <a:ext cx="5105160" cy="6477120"/>
          </a:xfrm>
          <a:prstGeom prst="rect">
            <a:avLst/>
          </a:prstGeom>
          <a:solidFill>
            <a:srgbClr val="000000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1905120" y="380880"/>
            <a:ext cx="4495680" cy="5943600"/>
          </a:xfrm>
          <a:prstGeom prst="rect">
            <a:avLst/>
          </a:prstGeom>
          <a:solidFill>
            <a:srgbClr val="94b6d2"/>
          </a:solidFill>
          <a:ln w="19080">
            <a:solidFill>
              <a:srgbClr val="6b85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2" descr="http://www.english.udel.edu/lemay/franklin/homepage.jpg"/>
          <p:cNvPicPr/>
          <p:nvPr/>
        </p:nvPicPr>
        <p:blipFill>
          <a:blip r:embed="rId1"/>
          <a:srcRect l="0" t="0" r="0" b="93766"/>
          <a:stretch/>
        </p:blipFill>
        <p:spPr>
          <a:xfrm>
            <a:off x="1981080" y="533520"/>
            <a:ext cx="3048120" cy="38088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4" descr="http://www.english.udel.edu/lemay/franklin/revolutionary.gif"/>
          <p:cNvPicPr/>
          <p:nvPr/>
        </p:nvPicPr>
        <p:blipFill>
          <a:blip r:embed="rId2"/>
          <a:stretch/>
        </p:blipFill>
        <p:spPr>
          <a:xfrm>
            <a:off x="4952880" y="457200"/>
            <a:ext cx="13813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xtens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18288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reate a journal entry or blog your from your delegat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reate Facebook page for delegate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 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lony: Delegat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0" name="TextBox 3"/>
          <p:cNvSpPr/>
          <p:nvPr/>
        </p:nvSpPr>
        <p:spPr>
          <a:xfrm>
            <a:off x="2971800" y="152388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raham Bald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4"/>
          <p:cNvSpPr/>
          <p:nvPr/>
        </p:nvSpPr>
        <p:spPr>
          <a:xfrm>
            <a:off x="228600" y="3200400"/>
            <a:ext cx="251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c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Ellswor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Sher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5"/>
          <p:cNvSpPr/>
          <p:nvPr/>
        </p:nvSpPr>
        <p:spPr>
          <a:xfrm>
            <a:off x="228600" y="4952880"/>
            <a:ext cx="2590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nnuing Bedford J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Dickin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6"/>
          <p:cNvSpPr/>
          <p:nvPr/>
        </p:nvSpPr>
        <p:spPr>
          <a:xfrm>
            <a:off x="228600" y="1523880"/>
            <a:ext cx="228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sachuset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bridge Ger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7"/>
          <p:cNvSpPr/>
          <p:nvPr/>
        </p:nvSpPr>
        <p:spPr>
          <a:xfrm>
            <a:off x="2971800" y="3124080"/>
            <a:ext cx="28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y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cHen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8"/>
          <p:cNvSpPr/>
          <p:nvPr/>
        </p:nvSpPr>
        <p:spPr>
          <a:xfrm>
            <a:off x="2971800" y="4952880"/>
            <a:ext cx="2819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Hampsh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Lang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lm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0"/>
          <p:cNvSpPr/>
          <p:nvPr/>
        </p:nvSpPr>
        <p:spPr>
          <a:xfrm>
            <a:off x="6172200" y="152388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Jers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Patte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Brear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1"/>
          <p:cNvSpPr/>
          <p:nvPr/>
        </p:nvSpPr>
        <p:spPr>
          <a:xfrm>
            <a:off x="6172200" y="30481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Y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exander Hamil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ert Y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12"/>
          <p:cNvSpPr/>
          <p:nvPr/>
        </p:nvSpPr>
        <p:spPr>
          <a:xfrm>
            <a:off x="6248520" y="48769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rth Caro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ugh William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ou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Box 4"/>
          <p:cNvSpPr/>
          <p:nvPr/>
        </p:nvSpPr>
        <p:spPr>
          <a:xfrm>
            <a:off x="152280" y="3886200"/>
            <a:ext cx="2514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nsylv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jamin Frank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Wil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uverneor Mor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14"/>
          <p:cNvSpPr/>
          <p:nvPr/>
        </p:nvSpPr>
        <p:spPr>
          <a:xfrm>
            <a:off x="304920" y="167652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gi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ad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Washing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15"/>
          <p:cNvSpPr/>
          <p:nvPr/>
        </p:nvSpPr>
        <p:spPr>
          <a:xfrm>
            <a:off x="3809880" y="1676520"/>
            <a:ext cx="26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th Carol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hn Rut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cki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Let the Work Begi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533520" y="259056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1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George Washington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as elected the leader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His job was to keep the meeting orderly &amp; effectiv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Content Placeholder 2"/>
          <p:cNvSpPr/>
          <p:nvPr/>
        </p:nvSpPr>
        <p:spPr>
          <a:xfrm>
            <a:off x="533520" y="4343400"/>
            <a:ext cx="8153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Tw Cen MT"/>
              </a:rPr>
              <a:t>Rul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Each state was given one vo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Any delegate could voice than opin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All proceedings would be kept secret until finish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Picture 2" descr="http://www.congressforkids.net/images/unclesam_workbegins.gif"/>
          <p:cNvPicPr/>
          <p:nvPr/>
        </p:nvPicPr>
        <p:blipFill>
          <a:blip r:embed="rId1"/>
          <a:stretch/>
        </p:blipFill>
        <p:spPr>
          <a:xfrm>
            <a:off x="6400800" y="304920"/>
            <a:ext cx="2286000" cy="23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1532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irginia Plan – Edmund Randolph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609120" y="24379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800240" y="24379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i-cameral hous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ased on population or money contribution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800240" y="1752120"/>
            <a:ext cx="3886200" cy="639720"/>
          </a:xfrm>
          <a:prstGeom prst="rect">
            <a:avLst/>
          </a:prstGeom>
          <a:solidFill>
            <a:srgbClr val="d8b25c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dobe Garamond Pro Bold"/>
              </a:rPr>
              <a:t>Representation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0" name="Picture 4" descr="http://wzus1.ask.com/r?t=a&amp;d=us&amp;s=a&amp;c=p&amp;ti=1&amp;ai=30751&amp;l=dir&amp;o=0&amp;sv=0a5c4074&amp;ip=b8585782&amp;u=http%3A%2F%2Fwww.britishempire.co.uk%2Fimages2%2F13colonies.jpg"/>
          <p:cNvPicPr/>
          <p:nvPr/>
        </p:nvPicPr>
        <p:blipFill>
          <a:blip r:embed="rId1"/>
          <a:stretch/>
        </p:blipFill>
        <p:spPr>
          <a:xfrm>
            <a:off x="457200" y="1905120"/>
            <a:ext cx="4038480" cy="4689360"/>
          </a:xfrm>
          <a:prstGeom prst="rect">
            <a:avLst/>
          </a:prstGeom>
          <a:ln w="0">
            <a:noFill/>
          </a:ln>
        </p:spPr>
      </p:pic>
      <p:sp>
        <p:nvSpPr>
          <p:cNvPr id="401" name="TextBox 5"/>
          <p:cNvSpPr/>
          <p:nvPr/>
        </p:nvSpPr>
        <p:spPr>
          <a:xfrm>
            <a:off x="3200400" y="1905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7"/>
          <p:cNvSpPr/>
          <p:nvPr/>
        </p:nvSpPr>
        <p:spPr>
          <a:xfrm>
            <a:off x="282204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9"/>
          <p:cNvSpPr/>
          <p:nvPr/>
        </p:nvSpPr>
        <p:spPr>
          <a:xfrm>
            <a:off x="3124080" y="28954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10"/>
          <p:cNvSpPr/>
          <p:nvPr/>
        </p:nvSpPr>
        <p:spPr>
          <a:xfrm>
            <a:off x="994320" y="32004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12"/>
          <p:cNvSpPr/>
          <p:nvPr/>
        </p:nvSpPr>
        <p:spPr>
          <a:xfrm>
            <a:off x="609480" y="48006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13"/>
          <p:cNvSpPr/>
          <p:nvPr/>
        </p:nvSpPr>
        <p:spPr>
          <a:xfrm>
            <a:off x="2057400" y="3581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14"/>
          <p:cNvSpPr/>
          <p:nvPr/>
        </p:nvSpPr>
        <p:spPr>
          <a:xfrm>
            <a:off x="1600200" y="5029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3520" y="272520"/>
            <a:ext cx="861048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New Jersey Plan – William Patterson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609120" y="24379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800240" y="2437920"/>
            <a:ext cx="3886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ne-house legislature based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presentatives selected by state leg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ne vote per st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800240" y="1752120"/>
            <a:ext cx="3886200" cy="639720"/>
          </a:xfrm>
          <a:prstGeom prst="rect">
            <a:avLst/>
          </a:prstGeom>
          <a:solidFill>
            <a:srgbClr val="d8b25c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dobe Garamond Pro Bold"/>
              </a:rPr>
              <a:t>Representation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2" name="Picture 4" descr="http://wzus1.ask.com/r?t=a&amp;d=us&amp;s=a&amp;c=p&amp;ti=1&amp;ai=30751&amp;l=dir&amp;o=0&amp;sv=0a5c4074&amp;ip=b8585782&amp;u=http%3A%2F%2Fwww.britishempire.co.uk%2Fimages2%2F13colonies.jpg"/>
          <p:cNvPicPr/>
          <p:nvPr/>
        </p:nvPicPr>
        <p:blipFill>
          <a:blip r:embed="rId1"/>
          <a:stretch/>
        </p:blipFill>
        <p:spPr>
          <a:xfrm>
            <a:off x="457200" y="1905120"/>
            <a:ext cx="4038480" cy="4689360"/>
          </a:xfrm>
          <a:prstGeom prst="rect">
            <a:avLst/>
          </a:prstGeom>
          <a:ln w="0">
            <a:noFill/>
          </a:ln>
        </p:spPr>
      </p:pic>
      <p:sp>
        <p:nvSpPr>
          <p:cNvPr id="413" name="TextBox 5"/>
          <p:cNvSpPr/>
          <p:nvPr/>
        </p:nvSpPr>
        <p:spPr>
          <a:xfrm>
            <a:off x="3200400" y="1905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Box 7"/>
          <p:cNvSpPr/>
          <p:nvPr/>
        </p:nvSpPr>
        <p:spPr>
          <a:xfrm>
            <a:off x="2822040" y="243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9"/>
          <p:cNvSpPr/>
          <p:nvPr/>
        </p:nvSpPr>
        <p:spPr>
          <a:xfrm>
            <a:off x="3124080" y="28954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Box 10"/>
          <p:cNvSpPr/>
          <p:nvPr/>
        </p:nvSpPr>
        <p:spPr>
          <a:xfrm>
            <a:off x="99324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Box 12"/>
          <p:cNvSpPr/>
          <p:nvPr/>
        </p:nvSpPr>
        <p:spPr>
          <a:xfrm>
            <a:off x="609480" y="48006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13"/>
          <p:cNvSpPr/>
          <p:nvPr/>
        </p:nvSpPr>
        <p:spPr>
          <a:xfrm>
            <a:off x="2057400" y="3581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14"/>
          <p:cNvSpPr/>
          <p:nvPr/>
        </p:nvSpPr>
        <p:spPr>
          <a:xfrm>
            <a:off x="1600200" y="5029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Great Compromis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800240" y="2971800"/>
            <a:ext cx="38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NETICU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oger Sherma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2" name="Picture 2" descr="http://www.congressforkids.net/images/unclesam_wrestling.gif"/>
          <p:cNvPicPr/>
          <p:nvPr/>
        </p:nvPicPr>
        <p:blipFill>
          <a:blip r:embed="rId1"/>
          <a:stretch/>
        </p:blipFill>
        <p:spPr>
          <a:xfrm>
            <a:off x="5105520" y="-838080"/>
            <a:ext cx="3809880" cy="28573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4" descr="branches.jpg (41293 bytes)"/>
          <p:cNvPicPr/>
          <p:nvPr/>
        </p:nvPicPr>
        <p:blipFill>
          <a:blip r:embed="rId2"/>
          <a:srcRect l="0" t="19262" r="65425" b="-2215"/>
          <a:stretch/>
        </p:blipFill>
        <p:spPr>
          <a:xfrm>
            <a:off x="762120" y="1752480"/>
            <a:ext cx="2819160" cy="4114800"/>
          </a:xfrm>
          <a:prstGeom prst="rect">
            <a:avLst/>
          </a:prstGeom>
          <a:ln w="0">
            <a:noFill/>
          </a:ln>
        </p:spPr>
      </p:pic>
      <p:cxnSp>
        <p:nvCxnSpPr>
          <p:cNvPr id="424" name="Straight Arrow Connector 9"/>
          <p:cNvCxnSpPr/>
          <p:nvPr/>
        </p:nvCxnSpPr>
        <p:spPr>
          <a:xfrm>
            <a:off x="3581280" y="5715000"/>
            <a:ext cx="457920" cy="45792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5" name="TextBox 10"/>
          <p:cNvSpPr/>
          <p:nvPr/>
        </p:nvSpPr>
        <p:spPr>
          <a:xfrm>
            <a:off x="3200400" y="64882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 2 per state = 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6" name="Straight Arrow Connector 12"/>
          <p:cNvCxnSpPr/>
          <p:nvPr/>
        </p:nvCxnSpPr>
        <p:spPr>
          <a:xfrm flipH="1">
            <a:off x="608760" y="5562720"/>
            <a:ext cx="381960" cy="762480"/>
          </a:xfrm>
          <a:prstGeom prst="straightConnector1">
            <a:avLst/>
          </a:prstGeom>
          <a:ln w="10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7" name="TextBox 14"/>
          <p:cNvSpPr/>
          <p:nvPr/>
        </p:nvSpPr>
        <p:spPr>
          <a:xfrm>
            <a:off x="0" y="64882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d on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2" descr="Virginia and New Jersey stand down to compromise"/>
          <p:cNvPicPr/>
          <p:nvPr/>
        </p:nvPicPr>
        <p:blipFill>
          <a:blip r:embed="rId1"/>
          <a:stretch/>
        </p:blipFill>
        <p:spPr>
          <a:xfrm>
            <a:off x="457200" y="914400"/>
            <a:ext cx="3502080" cy="4572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4" descr="http://www.regentsprep.org/Regents/ushisgov/themes/government/gr_comp2.gif"/>
          <p:cNvPicPr/>
          <p:nvPr/>
        </p:nvPicPr>
        <p:blipFill>
          <a:blip r:embed="rId2"/>
          <a:stretch/>
        </p:blipFill>
        <p:spPr>
          <a:xfrm>
            <a:off x="4572000" y="1219320"/>
            <a:ext cx="419112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3/5</a:t>
            </a:r>
            <a:r>
              <a:rPr b="0" lang="en-US" sz="4400" spc="-1" strike="noStrike" baseline="30000">
                <a:solidFill>
                  <a:srgbClr val="775f55"/>
                </a:solidFill>
                <a:latin typeface="Tw Cen MT"/>
              </a:rPr>
              <a:t>th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Compromis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228240" y="1828800"/>
            <a:ext cx="4111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laves could not vote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Slaves would count for three-fifths of a person for determining both representation and taxation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2" name="Picture 2" descr="http://www.regentsprep.org/Regents/ushisgov/themes/government/three_fifths_comp2.gif"/>
          <p:cNvPicPr/>
          <p:nvPr/>
        </p:nvPicPr>
        <p:blipFill>
          <a:blip r:embed="rId1"/>
          <a:stretch/>
        </p:blipFill>
        <p:spPr>
          <a:xfrm>
            <a:off x="4419720" y="2362320"/>
            <a:ext cx="4190760" cy="39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hay’s Rebell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53" name="Picture 2" descr="Shay's Rebellion"/>
          <p:cNvPicPr/>
          <p:nvPr/>
        </p:nvPicPr>
        <p:blipFill>
          <a:blip r:embed="rId1"/>
          <a:stretch/>
        </p:blipFill>
        <p:spPr>
          <a:xfrm>
            <a:off x="1523880" y="1600200"/>
            <a:ext cx="5257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Signing of the Constitu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151920" y="213372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Governor Morris of New Jersey put the Constitution in its final form.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He competed the task of hand-writing 4,300 words in two days!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he Constitution was signed by 39 of the 55 delegates on September 17, 1787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5" name="Picture 4" descr="http://www.congressforkids.net/images/wethepeopleunclesam.jpg"/>
          <p:cNvPicPr/>
          <p:nvPr/>
        </p:nvPicPr>
        <p:blipFill>
          <a:blip r:embed="rId1"/>
          <a:srcRect l="15806" t="0" r="9143" b="0"/>
          <a:stretch/>
        </p:blipFill>
        <p:spPr>
          <a:xfrm>
            <a:off x="6400800" y="152280"/>
            <a:ext cx="251460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atifying the Constitu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609120" y="4648320"/>
            <a:ext cx="815364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Tw Cen MT"/>
              </a:rPr>
              <a:t>The Federalist Paper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85 essays supporting the ratification of the Constitu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840960" indent="-210240">
              <a:spcBef>
                <a:spcPts val="499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Alexander Hamilton, James Madison, and John Jay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2" marL="840960" indent="-21024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38" name="Picture 2" descr="http://www.congressforkids.net/images/ratifyingconst.jpg"/>
          <p:cNvPicPr/>
          <p:nvPr/>
        </p:nvPicPr>
        <p:blipFill>
          <a:blip r:embed="rId1"/>
          <a:srcRect l="7160" t="13171" r="7903" b="0"/>
          <a:stretch/>
        </p:blipFill>
        <p:spPr>
          <a:xfrm>
            <a:off x="5867280" y="457200"/>
            <a:ext cx="3276720" cy="2009880"/>
          </a:xfrm>
          <a:prstGeom prst="rect">
            <a:avLst/>
          </a:prstGeom>
          <a:ln w="0">
            <a:noFill/>
          </a:ln>
        </p:spPr>
      </p:pic>
      <p:sp>
        <p:nvSpPr>
          <p:cNvPr id="439" name="Content Placeholder 2"/>
          <p:cNvSpPr/>
          <p:nvPr/>
        </p:nvSpPr>
        <p:spPr>
          <a:xfrm>
            <a:off x="609480" y="2514600"/>
            <a:ext cx="81536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Federalis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Those who supported the new Constit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Ratifying the Constitu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41" name="Picture 2" descr="http://www.harwich.edu/depts/history/pp/Confed%20and%20Const/img046.JPG"/>
          <p:cNvPicPr/>
          <p:nvPr/>
        </p:nvPicPr>
        <p:blipFill>
          <a:blip r:embed="rId1"/>
          <a:stretch/>
        </p:blipFill>
        <p:spPr>
          <a:xfrm>
            <a:off x="457200" y="21337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4" descr="http://www.harwich.edu/depts/history/pp/Confed%20and%20Const/img042.JPG"/>
          <p:cNvPicPr/>
          <p:nvPr/>
        </p:nvPicPr>
        <p:blipFill>
          <a:blip r:embed="rId2"/>
          <a:stretch/>
        </p:blipFill>
        <p:spPr>
          <a:xfrm>
            <a:off x="4724280" y="251460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Bill of Right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0520" y="2362320"/>
            <a:ext cx="815364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nti – Federalis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delegates who refused to ratify the Constitu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588240" indent="-2509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Content Placeholder 2"/>
          <p:cNvSpPr/>
          <p:nvPr/>
        </p:nvSpPr>
        <p:spPr>
          <a:xfrm>
            <a:off x="457200" y="3962520"/>
            <a:ext cx="81532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James Madiso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wrote 12 amendments/ ten were appro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4" descr="http://www.congressforkids.net/images/billofrights.jpg"/>
          <p:cNvPicPr/>
          <p:nvPr/>
        </p:nvPicPr>
        <p:blipFill>
          <a:blip r:embed="rId1"/>
          <a:stretch/>
        </p:blipFill>
        <p:spPr>
          <a:xfrm>
            <a:off x="4800600" y="533520"/>
            <a:ext cx="3857760" cy="2314440"/>
          </a:xfrm>
          <a:prstGeom prst="rect">
            <a:avLst/>
          </a:prstGeom>
          <a:ln w="0">
            <a:noFill/>
          </a:ln>
        </p:spPr>
      </p:pic>
      <p:sp>
        <p:nvSpPr>
          <p:cNvPr id="447" name="Content Placeholder 2"/>
          <p:cNvSpPr/>
          <p:nvPr/>
        </p:nvSpPr>
        <p:spPr>
          <a:xfrm>
            <a:off x="457200" y="5486400"/>
            <a:ext cx="8153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ill of Right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w Cen MT"/>
                <a:ea typeface="Arial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 ten amendment to the Constit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1" descr="C21.png"/>
          <p:cNvPicPr/>
          <p:nvPr/>
        </p:nvPicPr>
        <p:blipFill>
          <a:blip r:embed="rId1"/>
          <a:srcRect l="0" t="9543" r="0" b="0"/>
          <a:stretch/>
        </p:blipFill>
        <p:spPr>
          <a:xfrm>
            <a:off x="0" y="304920"/>
            <a:ext cx="8854920" cy="59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50" name="Picture 2" descr="CC2.png"/>
          <p:cNvPicPr/>
          <p:nvPr/>
        </p:nvPicPr>
        <p:blipFill>
          <a:blip r:embed="rId1"/>
          <a:srcRect l="0" t="10541" r="0" b="0"/>
          <a:stretch/>
        </p:blipFill>
        <p:spPr>
          <a:xfrm>
            <a:off x="838080" y="1501920"/>
            <a:ext cx="7872480" cy="53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stitutional Conven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676520"/>
            <a:ext cx="441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ay 1787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Philadelphia, Pennsylvania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12 of the 13 states were present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hode Island refused to send a delegate because it was afraid of losing its states' rights.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Worked for 4 months behind closed doors of the State House to draft a new document known later as the "Constitution."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6" name="Picture 2" descr="http://www.congressforkids.net/images/unclesam_statehouse.jpg"/>
          <p:cNvPicPr/>
          <p:nvPr/>
        </p:nvPicPr>
        <p:blipFill>
          <a:blip r:embed="rId1"/>
          <a:stretch/>
        </p:blipFill>
        <p:spPr>
          <a:xfrm>
            <a:off x="4699080" y="2362320"/>
            <a:ext cx="444492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519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riting the Constitution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33520" y="236232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e Constitutional Convention met for 4 months. The 55 delegates were seldom all together at once because the weather was bad and travel was difficult.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bout 35 delegates were present during the process of writing the Constitu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359" name="Picture 2" descr="http://www.congressforkids.net/images/writconstitution.jpg"/>
          <p:cNvPicPr/>
          <p:nvPr/>
        </p:nvPicPr>
        <p:blipFill>
          <a:blip r:embed="rId1"/>
          <a:stretch/>
        </p:blipFill>
        <p:spPr>
          <a:xfrm>
            <a:off x="5937120" y="225360"/>
            <a:ext cx="3213360" cy="19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 </a:t>
            </a: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stitutional Convention Invitation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1" name="TextBox 2"/>
          <p:cNvSpPr/>
          <p:nvPr/>
        </p:nvSpPr>
        <p:spPr>
          <a:xfrm>
            <a:off x="0" y="838080"/>
            <a:ext cx="914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Design an invitation that will be sent to prospective delegates to the Constitutional Conven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The invitation should include information 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w Cen MT"/>
                <a:ea typeface="Arial"/>
              </a:rPr>
              <a:t>Extend an invitation to all delegates of the 13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w Cen MT"/>
                <a:ea typeface="Arial"/>
              </a:rPr>
              <a:t>State the purpose of the convention-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Revising of the Articles of Con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w Cen MT"/>
                <a:ea typeface="Arial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: May 1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w Cen MT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 1787 – compl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w Cen MT"/>
                <a:ea typeface="Arial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: Pennsylvania State House, Philadelphia, 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Some of the </a:t>
            </a:r>
            <a:r>
              <a:rPr b="1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“famous attendees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” – who will be invite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G. Washington, T. Jefferson, B. Franklin, J. Mad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  <a:ea typeface="Arial"/>
              </a:rPr>
              <a:t>What will be accomplish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xample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63" name="Content Placeholder 3" descr="invite1.jpg"/>
          <p:cNvPicPr/>
          <p:nvPr/>
        </p:nvPicPr>
        <p:blipFill>
          <a:blip r:embed="rId1"/>
          <a:stretch/>
        </p:blipFill>
        <p:spPr>
          <a:xfrm>
            <a:off x="228600" y="1752480"/>
            <a:ext cx="4765680" cy="449604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invite2.jpg"/>
          <p:cNvPicPr/>
          <p:nvPr/>
        </p:nvPicPr>
        <p:blipFill>
          <a:blip r:embed="rId2"/>
          <a:stretch/>
        </p:blipFill>
        <p:spPr>
          <a:xfrm>
            <a:off x="5257800" y="380880"/>
            <a:ext cx="360360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Content Placeholder 3" descr="invite3.jpg"/>
          <p:cNvPicPr/>
          <p:nvPr/>
        </p:nvPicPr>
        <p:blipFill>
          <a:blip r:embed="rId1"/>
          <a:stretch/>
        </p:blipFill>
        <p:spPr>
          <a:xfrm>
            <a:off x="0" y="2362320"/>
            <a:ext cx="5573880" cy="449568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4" descr="invite4.jpg"/>
          <p:cNvPicPr/>
          <p:nvPr/>
        </p:nvPicPr>
        <p:blipFill>
          <a:blip r:embed="rId2"/>
          <a:stretch/>
        </p:blipFill>
        <p:spPr>
          <a:xfrm>
            <a:off x="4700520" y="0"/>
            <a:ext cx="444348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onstitutional Convention Card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0" y="1523880"/>
            <a:ext cx="9144000" cy="491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Nam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lony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g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ccupation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llege: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ttended the Continental Convention     YES      NO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oposal: ________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 was known for __ at the Constitution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ederalist                            Anti- federalis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3400" indent="-293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reate a Nametag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533520" y="1447560"/>
            <a:ext cx="81532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RO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Name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lony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ersonal Design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1" name="Content Placeholder 2"/>
          <p:cNvSpPr/>
          <p:nvPr/>
        </p:nvSpPr>
        <p:spPr>
          <a:xfrm>
            <a:off x="457200" y="3657600"/>
            <a:ext cx="81532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ACK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Federalist vs. Anti Federal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Content Placeholder 2"/>
          <p:cNvSpPr/>
          <p:nvPr/>
        </p:nvSpPr>
        <p:spPr>
          <a:xfrm>
            <a:off x="457200" y="5334120"/>
            <a:ext cx="815328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INSID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w Cen MT"/>
                <a:ea typeface="Arial"/>
              </a:rPr>
              <a:t>1-2 unique things about your fram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4T02:01:02Z</dcterms:created>
  <dc:creator>Daniel F. Lyonnais</dc:creator>
  <dc:description/>
  <dc:language>en-US</dc:language>
  <cp:lastModifiedBy>hmhendri</cp:lastModifiedBy>
  <dcterms:modified xsi:type="dcterms:W3CDTF">2011-10-30T14:57:16Z</dcterms:modified>
  <cp:revision>14</cp:revision>
  <dc:subject/>
  <dc:title>Constitutional Convention</dc:title>
</cp:coreProperties>
</file>